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1C4EA-5A64-4FFE-AFC2-4622BD91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1D1F0-FFF7-45C5-926C-70906639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102F8-99AE-47D8-9C60-C1AAA75A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ECE32-CF2B-446F-96B6-1CF9B96F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E3C5-8BA7-4812-9392-089C4D02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B293-E777-4A3C-860A-CE03AB11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BFC8-EF22-48FA-986A-E18002A4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6FD9-0EB2-4C40-8903-58CCB7C1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D8D5-4F17-401D-9D25-069A13E3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6C36-C821-4CE6-9306-15515A4E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C5E4-76D6-40B0-B4B5-BF051FBC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B42B9-4C99-4F64-B34B-9E57EB0C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9057-3C28-4940-BAD6-9B9E6DAE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D5FD-7AE8-4B91-9576-0377D73C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0AC6-B925-4103-AC24-AC83FE8C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1591-9431-4665-8E5B-4D55FF21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6716-C761-4F0B-950B-FED8C843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E9995-2508-40F0-B4DA-C31FBE95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42807-9011-49CA-A7CC-26BBFA20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EC233-14E6-4898-AEA0-72F4ED08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FF039-7172-45DA-8EBC-F25DB6D1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EED25-EC64-47E4-9C84-AD9DA407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3B5C8-3F15-44AB-9A66-BB4CD5AE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77F09-A42D-4949-89B4-C7886933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8FAA-846F-4445-A707-D5A44CF2E5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3997-B236-4429-9D3F-AACD87DBD3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tipuri de motoare termice exist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fos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ul de la maşin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funcţionează motor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e depinde funcţionarea motor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te feluri exis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defecte au motoar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este c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ăldura de la combustibili şi cum se dilată gazele dacă le încălzim şi se obţine lucru mecan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user</cp:lastModifiedBy>
  <dcterms:modified xsi:type="dcterms:W3CDTF">2010-06-03T08:00:58Z</dcterms:modified>
  <cp:revision>6</cp:revision>
  <dc:subject/>
  <dc:title>Petrolul mişcă omenirea</dc:title>
</cp:coreProperties>
</file>